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10.png" ContentType="image/png"/>
  <Override PartName="/ppt/media/image2.gif" ContentType="image/gif"/>
  <Override PartName="/ppt/media/image11.png" ContentType="image/png"/>
  <Override PartName="/ppt/media/image12.jpeg" ContentType="image/jpeg"/>
  <Override PartName="/ppt/media/image3.gif" ContentType="image/gif"/>
  <Override PartName="/ppt/media/image7.png" ContentType="image/png"/>
  <Override PartName="/ppt/media/image4.gif" ContentType="image/gif"/>
  <Override PartName="/ppt/media/image8.png" ContentType="image/png"/>
  <Override PartName="/ppt/media/image5.gif" ContentType="image/gif"/>
  <Override PartName="/ppt/media/image9.png" ContentType="image/png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577E-B4CF-4FA0-988C-F86492FDF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CC5B-CD74-4176-8780-19FB5011F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9F9A-8BE4-45C1-84A6-8C9563BE7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F333-E0CD-4D37-807D-94E927780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E20B4-68C2-4C7F-AA3A-574EE5332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C9060-2C02-486C-8A5A-1D79DAF55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0DFBB-6B22-45DF-B577-94399AA49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0E418-9BF3-4349-A389-428A05A68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34805-A7F9-4F0B-82A0-258548BA3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02614-C6E5-468F-AC6D-DB744706D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5CC5F-C674-4175-9A34-D55B3F8E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EDB7-28FC-403A-B1FA-7FC9B2BA1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44AA3-5B66-4321-8ABF-028CDCE3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77211-1EDE-4D66-8FDF-50088C5C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646C6-B361-4FA4-9162-84EF44715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AA014-72B6-4351-87BB-C1AAE41C0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38626-C83E-4711-B1E2-F50EA216D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4297-FCDA-40B6-A66C-95FD3CF9F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3CDD-9081-4650-979E-701FBC7D7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B5C3-E522-4F35-8BD9-BDB9F2173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AB32-A578-42EF-99FF-F904EC6F0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834D-791C-4D6E-869A-ABD7B8F2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AE8F-29FF-4150-ABC1-52BD2982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2ACF-7086-4F5E-B4D3-885BB0C99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9640F-378C-4C8C-9E48-2E34714B5C3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B73ED-8BC9-4750-B22A-6901C18507F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e2aa"/>
            </a:gs>
            <a:gs pos="50000">
              <a:srgbClr val="eaeaea"/>
            </a:gs>
            <a:gs pos="100000">
              <a:srgbClr val="d2e2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1029"/>
          <p:cNvSpPr txBox="1"/>
          <p:nvPr/>
        </p:nvSpPr>
        <p:spPr>
          <a:xfrm>
            <a:off x="539640" y="1052640"/>
            <a:ext cx="777564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808000"/>
                </a:solidFill>
                <a:latin typeface="Times New Roman"/>
              </a:rPr>
              <a:t>ТЕОРЕМА ВИЕТА</a:t>
            </a:r>
            <a:endParaRPr b="1" i="1" lang="en-US" sz="1800" spc="1" strike="noStrike">
              <a:ln w="9360">
                <a:solidFill>
                  <a:srgbClr val="003300"/>
                </a:solidFill>
                <a:miter/>
              </a:ln>
              <a:solidFill>
                <a:srgbClr val="808000"/>
              </a:solidFill>
              <a:latin typeface="Times New Roman"/>
              <a:ea typeface="Times New Roman"/>
            </a:endParaRPr>
          </a:p>
        </p:txBody>
      </p:sp>
      <p:pic>
        <p:nvPicPr>
          <p:cNvPr id="121" name="Picture 2049" descr="j0178207"/>
          <p:cNvPicPr/>
          <p:nvPr/>
        </p:nvPicPr>
        <p:blipFill>
          <a:blip r:embed="rId1"/>
          <a:stretch/>
        </p:blipFill>
        <p:spPr>
          <a:xfrm rot="19728000">
            <a:off x="468000" y="62064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050" descr="j0178208"/>
          <p:cNvPicPr/>
          <p:nvPr/>
        </p:nvPicPr>
        <p:blipFill>
          <a:blip r:embed="rId2"/>
          <a:stretch/>
        </p:blipFill>
        <p:spPr>
          <a:xfrm rot="19224000">
            <a:off x="755280" y="450864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051" descr="j0178209"/>
          <p:cNvPicPr/>
          <p:nvPr/>
        </p:nvPicPr>
        <p:blipFill>
          <a:blip r:embed="rId3"/>
          <a:stretch/>
        </p:blipFill>
        <p:spPr>
          <a:xfrm rot="2316600">
            <a:off x="7884720" y="148428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052" descr="j0178210"/>
          <p:cNvPicPr/>
          <p:nvPr/>
        </p:nvPicPr>
        <p:blipFill>
          <a:blip r:embed="rId4"/>
          <a:stretch/>
        </p:blipFill>
        <p:spPr>
          <a:xfrm rot="2572200">
            <a:off x="7092720" y="25992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053" descr="j0178230"/>
          <p:cNvPicPr/>
          <p:nvPr/>
        </p:nvPicPr>
        <p:blipFill>
          <a:blip r:embed="rId5"/>
          <a:stretch/>
        </p:blipFill>
        <p:spPr>
          <a:xfrm rot="20122200">
            <a:off x="3419280" y="4941360"/>
            <a:ext cx="666720" cy="667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055" descr="j0178231"/>
          <p:cNvPicPr/>
          <p:nvPr/>
        </p:nvPicPr>
        <p:blipFill>
          <a:blip r:embed="rId6"/>
          <a:stretch/>
        </p:blipFill>
        <p:spPr>
          <a:xfrm rot="1520400">
            <a:off x="5435280" y="3933720"/>
            <a:ext cx="666720" cy="6667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1042920" y="2492280"/>
            <a:ext cx="756144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Как появилась теорема Вие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Как доказать теор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Почему теорема актуальна и сейч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Как работает теорема Пифагора в математических задача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324000" y="54936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Arial"/>
              </a:rPr>
              <a:t>И</a:t>
            </a:r>
            <a:r>
              <a:rPr b="0" lang="en-US" sz="3600" spc="-1" strike="noStrike">
                <a:solidFill>
                  <a:srgbClr val="006600"/>
                </a:solidFill>
                <a:latin typeface="Arial"/>
              </a:rPr>
              <a:t>сторические условия возникновения теоремы </a:t>
            </a:r>
            <a:r>
              <a:rPr b="0" lang="ru-RU" sz="3600" spc="-1" strike="noStrike">
                <a:solidFill>
                  <a:srgbClr val="006600"/>
                </a:solidFill>
                <a:latin typeface="Arial"/>
              </a:rPr>
              <a:t>Вие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7015320" y="1700280"/>
            <a:ext cx="212868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1133640" y="2351160"/>
            <a:ext cx="7162560" cy="24778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"/>
          <p:cNvPicPr/>
          <p:nvPr/>
        </p:nvPicPr>
        <p:blipFill>
          <a:blip r:embed="rId2"/>
          <a:stretch/>
        </p:blipFill>
        <p:spPr>
          <a:xfrm>
            <a:off x="7209000" y="19080"/>
            <a:ext cx="191592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41400" y="203040"/>
            <a:ext cx="8912160" cy="168444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5"/>
          <p:cNvSpPr/>
          <p:nvPr/>
        </p:nvSpPr>
        <p:spPr>
          <a:xfrm>
            <a:off x="49320" y="2216160"/>
            <a:ext cx="8861400" cy="45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Познакомится с историческими условия возникновения теоремы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иета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Изучит различные способы доказательства теоремы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иета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" descr=""/>
          <p:cNvPicPr/>
          <p:nvPr/>
        </p:nvPicPr>
        <p:blipFill>
          <a:blip r:embed="rId2"/>
          <a:stretch/>
        </p:blipFill>
        <p:spPr>
          <a:xfrm>
            <a:off x="7015320" y="0"/>
            <a:ext cx="212868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0" y="444600"/>
            <a:ext cx="9144000" cy="164124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5"/>
          <p:cNvSpPr/>
          <p:nvPr/>
        </p:nvSpPr>
        <p:spPr>
          <a:xfrm>
            <a:off x="343080" y="2271600"/>
            <a:ext cx="8546760" cy="44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Познакомится с применение теоремы к решению древних задач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Изучит основные виды современных геометрических задач, решаемых при помощи теоремы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иета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"/>
          <p:cNvPicPr/>
          <p:nvPr/>
        </p:nvPicPr>
        <p:blipFill>
          <a:blip r:embed="rId2"/>
          <a:stretch/>
        </p:blipFill>
        <p:spPr>
          <a:xfrm>
            <a:off x="6994440" y="0"/>
            <a:ext cx="212904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20520" y="519120"/>
            <a:ext cx="8921880" cy="165096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5"/>
          <p:cNvSpPr/>
          <p:nvPr/>
        </p:nvSpPr>
        <p:spPr>
          <a:xfrm>
            <a:off x="363600" y="3284640"/>
            <a:ext cx="7962840" cy="34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Познакомится с применение теоремы к решению современных задач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Узнает как используется теорема в современном мир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"/>
          <p:cNvPicPr/>
          <p:nvPr/>
        </p:nvPicPr>
        <p:blipFill>
          <a:blip r:embed="rId2"/>
          <a:stretch/>
        </p:blipFill>
        <p:spPr>
          <a:xfrm>
            <a:off x="7015320" y="0"/>
            <a:ext cx="212868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WordArt 4"/>
          <p:cNvSpPr txBox="1"/>
          <p:nvPr/>
        </p:nvSpPr>
        <p:spPr>
          <a:xfrm>
            <a:off x="900000" y="2708280"/>
            <a:ext cx="7336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Франсуа Виет – отец алгебры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Viete_2"/>
          <p:cNvPicPr/>
          <p:nvPr/>
        </p:nvPicPr>
        <p:blipFill>
          <a:blip r:embed="rId1"/>
          <a:stretch/>
        </p:blipFill>
        <p:spPr>
          <a:xfrm>
            <a:off x="179280" y="404640"/>
            <a:ext cx="4410360" cy="61912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3"/>
          <p:cNvSpPr/>
          <p:nvPr/>
        </p:nvSpPr>
        <p:spPr>
          <a:xfrm>
            <a:off x="4643280" y="0"/>
            <a:ext cx="3745080" cy="56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Monotype Corsiva"/>
              </a:rPr>
              <a:t>Франсуа Виет (1540 – 160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Monotype Corsiva"/>
              </a:rPr>
              <a:t>По праву достойна в стихах быть воспе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Monotype Corsiva"/>
              </a:rPr>
              <a:t>о свойствах корней теорема Виет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Monotype Corsiva"/>
              </a:rPr>
              <a:t>(А.Гуревич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31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31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31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31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31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31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31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31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04:14:09Z</dcterms:created>
  <dc:creator>User</dc:creator>
  <dc:description/>
  <dc:language>en-US</dc:language>
  <cp:lastModifiedBy>ILYA</cp:lastModifiedBy>
  <dcterms:modified xsi:type="dcterms:W3CDTF">2010-05-28T04:30:44Z</dcterms:modified>
  <cp:revision>54</cp:revision>
  <dc:subject/>
  <dc:title>Слайд 1</dc:title>
</cp:coreProperties>
</file>